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4B3-38C1-44F9-B44B-893EAB00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83B-4C60-4E76-945F-66AF98E7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3B6-B7ED-45C5-8EC1-D215979E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2B0-D7D5-4749-B004-1FD94665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4AA-0841-4419-96CD-22106BA5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05A-D413-44CD-909D-0DA8310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790-8E3F-44D7-B18B-2E4E1B0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017-6891-4D99-BD5B-6695594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38B-540D-4B4E-8D99-08FECF4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4C5-923A-4BD4-9033-E10B9A3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707-A1F1-4D6E-95CD-772C5D4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D24-8084-41DE-9B14-F068032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Modern20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553-B38F-43E9-9249-65F65A7E1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05520" y="3886200"/>
          <a:ext cx="365760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886200"/>
                    <a:ext cx="36576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ntro to Desig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eorgia"/>
              </a:rPr>
              <a:t>Concepts for Message Design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roximity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1828800"/>
            <a:ext cx="4343400" cy="3809880"/>
            <a:chOff x="4038480" y="1828800"/>
            <a:chExt cx="4343400" cy="3809880"/>
          </a:xfrm>
        </p:grpSpPr>
        <p:sp>
          <p:nvSpPr>
            <p:cNvPr id="132" name=""/>
            <p:cNvSpPr/>
            <p:nvPr/>
          </p:nvSpPr>
          <p:spPr>
            <a:xfrm>
              <a:off x="4038480" y="1828800"/>
              <a:ext cx="4343400" cy="380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095880" y="4267080"/>
            <a:ext cx="127008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426708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4495680" y="4343400"/>
            <a:ext cx="127008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343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181480" y="320040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3200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6781680" y="320040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81680" y="3200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867280" y="2057400"/>
            <a:ext cx="1270080" cy="9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7280" y="2057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3" name=""/>
          <p:cNvGraphicFramePr/>
          <p:nvPr/>
        </p:nvGraphicFramePr>
        <p:xfrm>
          <a:off x="762120" y="2286000"/>
          <a:ext cx="126972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286000"/>
                    <a:ext cx="1269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85800" y="2895480"/>
            <a:ext cx="1828800" cy="3200400"/>
            <a:chOff x="685800" y="2895480"/>
            <a:chExt cx="1828800" cy="3200400"/>
          </a:xfrm>
        </p:grpSpPr>
        <p:sp>
          <p:nvSpPr>
            <p:cNvPr id="148" name=""/>
            <p:cNvSpPr/>
            <p:nvPr/>
          </p:nvSpPr>
          <p:spPr>
            <a:xfrm>
              <a:off x="685800" y="2895480"/>
              <a:ext cx="182880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914400" y="2895480"/>
            <a:ext cx="126972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89548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914400" y="3962160"/>
            <a:ext cx="126972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396216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914400" y="5029200"/>
            <a:ext cx="126972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14400" y="502920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5" name=""/>
          <p:cNvGraphicFramePr/>
          <p:nvPr/>
        </p:nvGraphicFramePr>
        <p:xfrm>
          <a:off x="5334120" y="914400"/>
          <a:ext cx="3403440" cy="25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914400"/>
                    <a:ext cx="34034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utting it all together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81480" y="3124080"/>
          <a:ext cx="127008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1240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38080" y="380880"/>
            <a:ext cx="5867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lbertus Extra Bold"/>
              </a:rPr>
              <a:t>C.A.R.P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43800" y="3276720"/>
          <a:ext cx="127008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32767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The Four Principles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ontras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Alignmen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Repetition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Proximity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2133720"/>
          <a:ext cx="3200400" cy="21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133720"/>
                    <a:ext cx="320040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ontras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Draws the ey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Must be significan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olor, shape, siz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81680" y="396252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9625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ontras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3000" y="3279600"/>
          <a:ext cx="365760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9600"/>
                    <a:ext cx="36576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343400" y="1828800"/>
            <a:ext cx="4267080" cy="2590920"/>
            <a:chOff x="4343400" y="1828800"/>
            <a:chExt cx="4267080" cy="2590920"/>
          </a:xfrm>
        </p:grpSpPr>
        <p:sp>
          <p:nvSpPr>
            <p:cNvPr id="63" name=""/>
            <p:cNvSpPr/>
            <p:nvPr/>
          </p:nvSpPr>
          <p:spPr>
            <a:xfrm>
              <a:off x="4343400" y="1828800"/>
              <a:ext cx="4267080" cy="259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6705720" y="2895480"/>
            <a:ext cx="126972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89548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715000" y="182880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5000" y="1828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952880" y="304812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30481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Alignmen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Left or Right is stronger than Center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The eye draws the lin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Align to a strong element on the pag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629400" y="434340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3434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518148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1814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Alignmen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553080" y="525780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52578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553080" y="274320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7432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943600" y="3733920"/>
          <a:ext cx="187956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733920"/>
                    <a:ext cx="18795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172200" y="1447920"/>
          <a:ext cx="1650960" cy="12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1447920"/>
                    <a:ext cx="16509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Repetitio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reates rhythm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Provides continuity within longer works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Balances contras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324480" y="533412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41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086600" y="434340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43434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4343400"/>
          <a:ext cx="1269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343400"/>
                    <a:ext cx="1269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505320" y="1905120"/>
            <a:ext cx="4724280" cy="3276360"/>
            <a:chOff x="3505320" y="1905120"/>
            <a:chExt cx="4724280" cy="3276360"/>
          </a:xfrm>
        </p:grpSpPr>
        <p:sp>
          <p:nvSpPr>
            <p:cNvPr id="102" name=""/>
            <p:cNvSpPr/>
            <p:nvPr/>
          </p:nvSpPr>
          <p:spPr>
            <a:xfrm>
              <a:off x="3505320" y="1905120"/>
              <a:ext cx="4724280" cy="32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6629400" y="2133720"/>
            <a:ext cx="127008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9400" y="21337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886200" y="4114800"/>
            <a:ext cx="127008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4114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886200" y="213372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21337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6629400" y="411480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29400" y="4114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Repetitio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14600" y="2971800"/>
          <a:ext cx="127008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29718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257800" y="3048120"/>
          <a:ext cx="127008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30481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roximity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Group items that relat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DON’T group items that DON’T 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White space pushes elements apar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72200" y="563868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6386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543800" y="487692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8769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629400" y="3886200"/>
          <a:ext cx="12700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38862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10080" y="4648320"/>
          <a:ext cx="127008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6483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Linda</cp:lastModifiedBy>
  <dcterms:modified xsi:type="dcterms:W3CDTF">2008-06-28T18:36:34Z</dcterms:modified>
  <cp:revision>10</cp:revision>
  <dc:subject/>
  <dc:title>Intro to Design</dc:title>
</cp:coreProperties>
</file>